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1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2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3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4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" name=""/>
          <p:cNvSpPr/>
          <p:nvPr/>
        </p:nvSpPr>
        <p:spPr>
          <a:xfrm>
            <a:off x="1079640" y="4863960"/>
            <a:ext cx="10818720" cy="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7280" y="1130040"/>
            <a:ext cx="58676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47280" y="2641320"/>
            <a:ext cx="5867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1560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7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5960" indent="-399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9560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5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5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5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8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1980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040" y="264132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18181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68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695916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18181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09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7272"/>
                </a:solidFill>
                <a:latin typeface="Gill Sans"/>
              </a:rPr>
              <a:t>Comic Life</a:t>
            </a: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tudent Examples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2362320" y="127080"/>
            <a:ext cx="7619760" cy="1015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2222640" y="127080"/>
            <a:ext cx="7619760" cy="1015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2247840" y="0"/>
            <a:ext cx="7620120" cy="1015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2273400" y="241200"/>
            <a:ext cx="7619760" cy="101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2527200" y="152280"/>
            <a:ext cx="7620120" cy="101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2413080" y="127080"/>
            <a:ext cx="7619760" cy="1015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2400480" y="254160"/>
            <a:ext cx="7619760" cy="1015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1905120" y="165240"/>
            <a:ext cx="7619760" cy="1015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2044800" y="127080"/>
            <a:ext cx="7619760" cy="1015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1905120" y="114480"/>
            <a:ext cx="7619760" cy="1015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1930320" y="0"/>
            <a:ext cx="7620120" cy="1015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7620120" cy="1015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7620120" cy="1015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2463840" y="177840"/>
            <a:ext cx="7620120" cy="1015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